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344A-17B3-4124-B1D4-94FE2FCEEF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FA3B-7CEA-4B94-A192-BFE4931DC7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074E-5767-4921-A427-6DBFBEAB77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F80A-86B5-47FF-9224-E9665ABBA1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3671-08C5-49A3-A37F-7A86560143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48B3-8B6D-4977-BB15-0A33614F32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1FE4-ACD2-408B-9BC6-ADEE4DF31E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D486-8346-46D2-BDF6-808D2DE6FC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C13C-580C-4B7F-81DA-57055A101B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AB45-6853-4405-990F-3D4299C7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EE66-0B94-4AF5-A8D7-CE529967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364A-5979-430B-8B9B-A8FD77E3E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C8B4-0145-4006-89B9-A776A290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B0DC-9002-4E83-8447-B1E440A5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5A94-0D6F-4B2A-A1FC-3D43A83A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1B6A-07A3-426E-8DD2-E7CF926D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7AB5-CED1-40E0-80A2-51CBC5C2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BC3C-AE53-4BC5-9D5F-4C9D62AC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84AA-C831-4099-B04F-DDEBD54D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E652-F934-4C69-9B44-2D126D50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7158-F56C-4AF1-9E9E-16749818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FB5C-6526-4542-9BE4-9160438343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97360" y="731520"/>
            <a:ext cx="1079280" cy="2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изуализац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620640" y="1211400"/>
            <a:ext cx="5851440" cy="73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55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верные бло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04640" y="1116000"/>
            <a:ext cx="5851800" cy="73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72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лан расстановки рабочих мес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500040" y="1071720"/>
            <a:ext cx="6143760" cy="60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72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лан пол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125360" y="971640"/>
            <a:ext cx="4824720" cy="63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72200" cy="46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лан освещ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101600" y="1763640"/>
            <a:ext cx="467856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72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рендовая сте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12640" y="1211400"/>
            <a:ext cx="5851800" cy="73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72200" cy="46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рендовая стена и освещ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404640" y="1116000"/>
            <a:ext cx="5851800" cy="73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722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она операционис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58640" y="1116000"/>
            <a:ext cx="5851800" cy="73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55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ена информ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458640" y="1308240"/>
            <a:ext cx="5851800" cy="73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72200" cy="46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формление касс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12640" y="1116000"/>
            <a:ext cx="5851800" cy="73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Ponasenkova</cp:lastModifiedBy>
  <dcterms:modified xsi:type="dcterms:W3CDTF">2012-12-28T08:29:27Z</dcterms:modified>
  <cp:revision>15</cp:revision>
  <dc:subject/>
  <dc:title>Визуализация</dc:title>
</cp:coreProperties>
</file>